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F17C-B5E8-45B9-94B3-F7F4FC1B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144C-0AF0-4362-B07F-0693AB75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9AA5-EC12-40A1-9C1D-7EED38A5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2F7-4961-45ED-97B1-0FC94F9C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2683-2452-48D0-B310-8DB3DE65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AFC3-47DB-4BE9-8F2F-D08CC166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A6D5-E800-429D-9150-465FD978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B582-7A42-44A3-97FE-50FBAEC3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8CD-D3F8-43B6-A6A7-2659EBD0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2E4-05C1-402E-98F8-F581369F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0A4-7ED6-4232-B27E-E08395B3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201E-2FB1-4D19-919C-2158693B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E7BA-5A7B-49BB-A1DA-A13B6A5D2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ollect for P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mighty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o whom all hearts are op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ll desires know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from whom no secre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re hidd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leanse the thoughts of our he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inspi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your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at we may perfectly love you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orthily magnif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holy nam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Christ our Lord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9:59:40Z</dcterms:created>
  <dc:creator>Anon Anon</dc:creator>
  <dc:description/>
  <dc:language>en-US</dc:language>
  <cp:lastModifiedBy>Anon Anon</cp:lastModifiedBy>
  <dcterms:modified xsi:type="dcterms:W3CDTF">2005-08-09T05:34:13Z</dcterms:modified>
  <cp:revision>11</cp:revision>
  <dc:subject/>
  <dc:title>PowerPoint Presentation</dc:title>
</cp:coreProperties>
</file>